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D27-6ACC-4901-AE0D-8D62021D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658-205C-42E1-A867-A3E23CB0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AF2-E98B-4621-8CB1-F4189CC4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858-755B-4D9D-B334-03814A4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612-6611-4F35-AFA9-2FE357C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AEE-13D3-441E-BA18-F133788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FDB9-4856-496C-A681-A640C09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367A-6B7B-4BB3-9420-9C79AB2D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5DD3-66D6-4C93-8863-3DFBD77C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7B7F-E940-4B81-BF57-27C5BB3E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E0C9-3D57-4B71-8B15-206C1A1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D0F-AD10-49B0-959B-41BD8CF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1325-2995-494B-ACD6-C48EE9BD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1DB-5ED6-4E63-AF46-C277790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C6C-7AE1-4F16-8584-39BE4B63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BA9-92B2-4BB9-A2DB-B6097932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9E9C-A517-41A7-8ABC-C5917CC2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537-4CE6-41BA-8099-863A6E2F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1A9-0E8B-49C4-B7CB-F504D371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D05-91C3-4B57-A015-83B9C149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00E-F0F0-474C-9D1B-DB17FF0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BF3-6962-4DAD-BEF0-4FA8561B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CE2-1E8B-41EA-B055-B5E6E92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978-1962-4D76-8CA3-485A0D2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434-2339-4363-B6FD-C42A2B7047C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3E7-CB99-4E96-AD91-3998AB1F72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725480" y="1792440"/>
            <a:ext cx="5722920" cy="27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DEE-7A34-4E25-A168-A2D49D50AD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идролиз – это реакция обменного разложения веществ вод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675-7F8E-477A-971B-6F3962FD9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ильн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кислоты, являющиеся сильными электролитам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Cl, HN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Br, HI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Cl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лабые кислота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слоты, являющиеся слабыми электролитам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ильные осн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ильные электролиты - щелочи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OH, KOH, Ca(OH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Слабые осн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растворимые основания, слабые электролиты (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u(OH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Al(OH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BF1-7E04-422E-8A10-A8803B48D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органических веществ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1. Гидролиз галогеналк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+ Н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2. Гидролиз сложных эфи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-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Н +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3. Гидролиз дисахар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4. Гидролиз полисахар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(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499-02BD-400B-8B7F-BED78B6E92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aeaea"/>
                </a:solidFill>
                <a:latin typeface="Tahoma"/>
              </a:rPr>
              <a:t>Гидролиз неорганических веществ.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дролизу подвергаются растворы солей. Следовательно, водные растворы солей имеют разные значения рН и различные типы сред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Кислотную (рН</a:t>
            </a:r>
            <a:r>
              <a:rPr b="0" lang="en-US" sz="3200" spc="-1" strike="noStrike">
                <a:solidFill>
                  <a:srgbClr val="d74229"/>
                </a:solidFill>
                <a:latin typeface="Tahoma"/>
              </a:rPr>
              <a:t>&lt;7)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Щелочную (рН</a:t>
            </a:r>
            <a:r>
              <a:rPr b="0" lang="en-US" sz="3200" spc="-1" strike="noStrike">
                <a:solidFill>
                  <a:srgbClr val="d74229"/>
                </a:solidFill>
                <a:latin typeface="Tahoma"/>
              </a:rPr>
              <a:t>&gt;7)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Нейтральную (рН=7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E39-96FB-4CA3-B632-C30B35E42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Классификация сол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бую соль можно представить как продукт взаимодействия основания с кислот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висимости от силы основания и кислоты можно выделить </a:t>
            </a:r>
            <a:r>
              <a:rPr b="1" lang="ru-RU" sz="2800" spc="-1" strike="noStrike" u="sng">
                <a:solidFill>
                  <a:srgbClr val="d74229"/>
                </a:solidFill>
                <a:uFillTx/>
                <a:latin typeface="Tahoma"/>
              </a:rPr>
              <a:t>4 типа сол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Соли, образованные сильным основанием и слабой кислотой (КС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N, NaC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O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Соли, образованные сильной кислотой и слабым основанием (С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Cl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FeS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Mn(N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82F-DA77-46E7-BFD6-E919231C38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3. Соли, образованные слабой  кислотой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слабым основанием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N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N,</a:t>
            </a:r>
            <a:r>
              <a:rPr b="1" lang="ru-RU" sz="2800" spc="-1" strike="noStrike">
                <a:solidFill>
                  <a:srgbClr val="7939f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u(CH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COO)</a:t>
            </a:r>
            <a:r>
              <a:rPr b="1" lang="en-US" sz="2000" spc="-1" strike="noStrike">
                <a:solidFill>
                  <a:srgbClr val="7939f9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7939f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Соли, образованные сильной  кислотой и  сильным основ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aCl, K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BaI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340-F23D-4A9E-8049-A8F70D5DB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ли, образованные сильным основанием и слабой кислотой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N 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+ 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Сокращё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Tahoma"/>
              </a:rPr>
              <a:t>&gt;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7, среда щелочная, гидролиз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6AD-9C56-461B-B420-9A1BE8AF92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оли, образованные сильным основанием и слабой кислотой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d74229"/>
                </a:solidFill>
                <a:uFillTx/>
                <a:latin typeface="Tahoma"/>
              </a:rPr>
              <a:t>Гидролиз по анион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тимый проц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ле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кция среды - щелочная, р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гидролизе солей, образованных слабыми многоосновными кислотами образуются кислые со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F87-4DDF-42D7-846C-F91ECAA972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Соли, образованные сильной кислотой и слабым основание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+ 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Н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Полное 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 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C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</a:rPr>
              <a:t>Сокращё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· H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</a:t>
            </a:r>
            <a:r>
              <a:rPr b="1" lang="en-US" sz="2800" spc="-1" strike="noStrike">
                <a:solidFill>
                  <a:srgbClr val="d74229"/>
                </a:solidFill>
                <a:latin typeface="Tahoma"/>
              </a:rPr>
              <a:t>&lt;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7, среда кислотная, гидролиз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кат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3EA-1294-4B73-BF2E-C05E5E2663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Соли, образованные сильной кислотой и слабым основанием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74229"/>
                </a:solidFill>
                <a:uFillTx/>
                <a:latin typeface="Tahoma"/>
              </a:rPr>
              <a:t>Гидролиз по катион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тимый проце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ле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еда кислотная, р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D5E-A804-4A5F-ADBC-D750A2A25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1066680" y="444600"/>
            <a:ext cx="7074000" cy="809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Содержимое 3"/>
              <p:cNvSpPr txBox="1"/>
              <p:nvPr/>
            </p:nvSpPr>
            <p:spPr>
              <a:xfrm>
                <a:off x="1143000" y="2427120"/>
                <a:ext cx="2903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Объект 4"/>
              <p:cNvSpPr txBox="1"/>
              <p:nvPr/>
            </p:nvSpPr>
            <p:spPr>
              <a:xfrm>
                <a:off x="4427640" y="2276640"/>
                <a:ext cx="3639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Объект 5"/>
              <p:cNvSpPr txBox="1"/>
              <p:nvPr/>
            </p:nvSpPr>
            <p:spPr>
              <a:xfrm>
                <a:off x="4788000" y="3500280"/>
                <a:ext cx="35478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Объект 8"/>
              <p:cNvSpPr txBox="1"/>
              <p:nvPr/>
            </p:nvSpPr>
            <p:spPr>
              <a:xfrm>
                <a:off x="19080" y="1341360"/>
                <a:ext cx="3760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⇔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9"/>
              <p:cNvSpPr txBox="1"/>
              <p:nvPr/>
            </p:nvSpPr>
            <p:spPr>
              <a:xfrm>
                <a:off x="4179960" y="1341360"/>
                <a:ext cx="49640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10"/>
              <p:cNvSpPr txBox="1"/>
              <p:nvPr/>
            </p:nvSpPr>
            <p:spPr>
              <a:xfrm>
                <a:off x="826920" y="3213000"/>
                <a:ext cx="30974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TextBox 11"/>
          <p:cNvSpPr/>
          <p:nvPr/>
        </p:nvSpPr>
        <p:spPr>
          <a:xfrm>
            <a:off x="611280" y="530064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вышении температуры диссоциация воды усил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12"/>
              <p:cNvSpPr txBox="1"/>
              <p:nvPr/>
            </p:nvSpPr>
            <p:spPr>
              <a:xfrm>
                <a:off x="6372360" y="5445000"/>
                <a:ext cx="25272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63A-3344-49EF-9E62-CA197A69BD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Соли, образованные слабой  кислотой и слабым основанием.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+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O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Ионное уравнение гидроли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·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рн = 7, среда нейтральная, гидролиз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            </a:t>
            </a:r>
            <a:r>
              <a:rPr b="1" lang="ru-RU" sz="2800" spc="-1" strike="noStrike">
                <a:solidFill>
                  <a:srgbClr val="d74229"/>
                </a:solidFill>
                <a:latin typeface="Tahoma"/>
              </a:rPr>
              <a:t>катиону и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F08-D2BE-4B36-940A-59031B4149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Соли, образованные слабой  кислотой и слабым основанием</a:t>
            </a: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d74229"/>
                </a:solidFill>
                <a:uFillTx/>
                <a:latin typeface="Tahoma"/>
              </a:rPr>
              <a:t>Гидролиз  по катиону и по ани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имическое равновесие смещено впра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акция среды или нейтральная, или слабокислая, или слабощелочная, что зависит от констант диссоциации кислоты и основания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идролиз может быть необратимым, если хотя бы один из продуктов реакции гидролиза уходит из сферы реа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F24-9D7B-479D-ACAA-A8E951260B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Tahoma"/>
              </a:rPr>
              <a:t>Соли, образованные сильной  кислотой и  сильным основанием.</a:t>
            </a:r>
            <a:br>
              <a:rPr sz="3400"/>
            </a:b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К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+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↔ O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¯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+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Все ионы остаются в растворе – </a:t>
            </a:r>
            <a:r>
              <a:rPr b="0" lang="ru-RU" sz="2800" spc="-1" strike="noStrike">
                <a:solidFill>
                  <a:srgbClr val="d74229"/>
                </a:solidFill>
                <a:latin typeface="Tahoma"/>
                <a:ea typeface="Arial"/>
              </a:rPr>
              <a:t>гидролиз не происходи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. Среда нейтральная, рН =7, т.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Arial"/>
              </a:rPr>
              <a:t>концентрации катионов водорода и гидроксид - анионов в растворе равны, как в чистой в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A68-39F9-40CF-97B1-F1FD0EF50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солей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74229"/>
                </a:solidFill>
                <a:latin typeface="Tahoma"/>
              </a:rPr>
              <a:t>Гидролиз можно усилить</a:t>
            </a:r>
            <a:r>
              <a:rPr b="0" lang="ru-RU" sz="3200" spc="-1" strike="noStrike">
                <a:solidFill>
                  <a:srgbClr val="d7422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авить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греть раствор (увеличится диссоциация вод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язать один из продуктов гидролиза в труднорастворимое соединение или удалить один из продуктов в газовую фа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7E6-F5BE-4D83-A8EB-5730AE6C90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74229"/>
                </a:solidFill>
                <a:latin typeface="Tahoma"/>
              </a:rPr>
              <a:t>Гидролиз можно подав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ить концентрацию растворённ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ладить раст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ести в раствор один из продуктов гидролиза: подкислять (если р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) или подщелачивать (если р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282-F2F8-46DC-9DE6-915433723D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в природ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Явление гидролиза играет огромную роль в химическом преобразовании земной коры. Многие минералы земной коры - это сульфиды металлов, которые хотя и плохо растворимы в воде, постепенно взаимодействуют с ней. Такие процессы идут и на поверхности Земли, и особенно интенсивно в ее глубинах при повышенной темп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246-3FBE-4365-AD84-D699BB46F2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ировом океане соли также интенсивно взаимодействуют с водой. Выносимые речной водой гидрокарбонаты кальция и магния придают морской воде слабощелочную реакц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5D9-8D49-4010-ABA9-BE8A8BB07A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в такой слабощелочной среде прибрежных вод рН приблизительно равно 9 наиболее интенсивно протекает фотосинтез в морских растениях и наиболее быстро развиваются морские живот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359-DD80-4B9E-B5F7-1416D0BC59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Гидролиз в жизни челове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вседневной жизни мы постоянно сталкиваемся с явлением гидролиза - при стирке белья, мытье посуды, умывании мылом. Даже процессы пищеварения, в частности, расщепление жиров, протекают благодаря гидролиз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FDF-AD54-4073-B066-865B551198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560" y="333360"/>
            <a:ext cx="6697800" cy="115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ЛАБЫХ КИСЛОТ И ОСНОВАНИ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933560" y="3197160"/>
                <a:ext cx="567684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ислоты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основания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3FF-8B19-4601-91E0-75AA7BDD4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8362800" cy="124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868400" y="2747880"/>
            <a:ext cx="6205680" cy="262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BD3-E7A7-4A84-AB74-985A9FD0D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363160" cy="99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Содержимое 3"/>
              <p:cNvSpPr txBox="1"/>
              <p:nvPr/>
            </p:nvSpPr>
            <p:spPr>
              <a:xfrm>
                <a:off x="252360" y="1197000"/>
                <a:ext cx="68389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Объект 4"/>
              <p:cNvSpPr txBox="1"/>
              <p:nvPr/>
            </p:nvSpPr>
            <p:spPr>
              <a:xfrm>
                <a:off x="324000" y="2060640"/>
                <a:ext cx="5332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ислоты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Box 5"/>
          <p:cNvSpPr/>
          <p:nvPr/>
        </p:nvSpPr>
        <p:spPr>
          <a:xfrm>
            <a:off x="250920" y="29973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онов Н в кисло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6"/>
              <p:cNvSpPr txBox="1"/>
              <p:nvPr/>
            </p:nvSpPr>
            <p:spPr>
              <a:xfrm>
                <a:off x="250920" y="3500280"/>
                <a:ext cx="7707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395280" y="5157720"/>
                <a:ext cx="6232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Box 8"/>
          <p:cNvSpPr/>
          <p:nvPr/>
        </p:nvSpPr>
        <p:spPr>
          <a:xfrm>
            <a:off x="250920" y="609300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онов ОН в осн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9"/>
              <p:cNvSpPr txBox="1"/>
              <p:nvPr/>
            </p:nvSpPr>
            <p:spPr>
              <a:xfrm>
                <a:off x="611280" y="4365720"/>
                <a:ext cx="48243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C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снования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FAB-98A1-4B35-9BB5-D2F16B638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229600" cy="113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Содержимое 3"/>
              <p:cNvSpPr txBox="1"/>
              <p:nvPr/>
            </p:nvSpPr>
            <p:spPr>
              <a:xfrm>
                <a:off x="757080" y="1628640"/>
                <a:ext cx="478800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кислоты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Объект 4"/>
              <p:cNvSpPr txBox="1"/>
              <p:nvPr/>
            </p:nvSpPr>
            <p:spPr>
              <a:xfrm>
                <a:off x="684360" y="3500280"/>
                <a:ext cx="5327640" cy="28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E62-C83C-4895-B2E9-CD552DCF6D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536840" y="430200"/>
            <a:ext cx="654192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" name="Содержимое 3"/>
              <p:cNvSpPr txBox="1"/>
              <p:nvPr/>
            </p:nvSpPr>
            <p:spPr>
              <a:xfrm>
                <a:off x="1143000" y="3451320"/>
                <a:ext cx="31640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TextBox 4"/>
          <p:cNvSpPr/>
          <p:nvPr/>
        </p:nvSpPr>
        <p:spPr>
          <a:xfrm>
            <a:off x="4643280" y="364500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я кисл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ая щел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691-F21F-4AEF-B2DD-074077640B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ктивная кислотность (щелочность) обусловлена наличием свободных ионов Н (ОН) в раствор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72240" indent="-271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CE2-6AC8-43E3-9ABD-349C3622F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066680" y="312840"/>
            <a:ext cx="754380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нциальная кислотность (щелочность) обусловлена наличием ионов Н  (ОН) в молекул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кислотность – сумма активной и потенциальной кислот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082-A50A-468E-B88B-E0B336AA5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5-02T10:17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